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EE37-45BC-488C-A4A6-4710138F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E90F-CA1B-44F1-8BAC-F58F2AB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C400-03C3-4037-881A-39F9DC97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958B-792A-4660-A1F3-E7C462E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7FD-51D5-4BBA-84E1-CD8E689E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366A-66D5-4CED-B07E-C702375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D1F0-7972-4F0B-9111-37C19C54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4004-B1F6-488C-AAEB-A8682A5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A53-941D-4D1A-A981-246D4F0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457-AA2E-4685-8C8B-E3CCB4B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BB99-F681-43B0-9645-68D552E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FF3F-C5AE-4CA5-B650-E993D0D6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6E7-D572-4E45-B1B1-6AC2CED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404-A9C3-40B8-934F-4C9D433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83B1-36D9-4F0D-A457-42EAF8D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0920-9920-4E11-B300-AD2653B6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00DE-4175-48DB-9584-8D5024D7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8CAE-544A-47CA-AF76-528453C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4B83-B518-4C7F-8420-133976C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4A06-F967-44E1-8986-EB3424F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E06F-3D62-44FD-AF14-D99B4A6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3A59-C1C6-40BD-A42E-F9F9089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82A1-D408-4025-B074-32FABE1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808B-99F9-4C66-9B8B-A8A562A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41C1-C076-4E61-9862-F2A86C7F6A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575-454D-437F-A002-74E154E9DF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Alaska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alask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90728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0730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9480" y="0"/>
            <a:ext cx="792504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aska</a:t>
            </a:r>
            <a:endParaRPr b="0" lang="en-US" sz="1800" spc="1" strike="noStrike">
              <a:ln w="3492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648320"/>
            <a:ext cx="3276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ho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00600" y="4724280"/>
            <a:ext cx="2209680" cy="175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292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 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193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5987880"/>
            <a:ext cx="228600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tate song,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/7/2010,  </a:t>
            </a:r>
            <a:r>
              <a:rPr b="0" lang="en-US" sz="1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www.50states.com/Al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Name: Alas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Capital: June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 626,9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 the Union: Jan,3 1959,#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to: North to the fu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kname: Last Fronti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er: Forget me not (Myosotisalpestr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d: Willow ptarmi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ssian version of Aleutian word “Alakshak” meaning “great lands” or “Peninsula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Alaska: Map and State Flag"/>
          <p:cNvPicPr/>
          <p:nvPr/>
        </p:nvPicPr>
        <p:blipFill>
          <a:blip r:embed="rId1"/>
          <a:srcRect l="12688" t="0" r="12688" b="68466"/>
          <a:stretch/>
        </p:blipFill>
        <p:spPr>
          <a:xfrm>
            <a:off x="0" y="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laska: Map and State Flag"/>
          <p:cNvPicPr/>
          <p:nvPr/>
        </p:nvPicPr>
        <p:blipFill>
          <a:blip r:embed="rId2"/>
          <a:srcRect l="0" t="33344" r="0" b="0"/>
          <a:stretch/>
        </p:blipFill>
        <p:spPr>
          <a:xfrm>
            <a:off x="5181480" y="0"/>
            <a:ext cx="396252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495288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Alask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2, 201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http://bensguide.gpo.gov/3-5/state/alask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81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flag and the map of Alaska cool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All images Copyright © 1997 - 2000 WriteLine. All Rights Reserved. waterfall"/>
          <p:cNvPicPr/>
          <p:nvPr/>
        </p:nvPicPr>
        <p:blipFill>
          <a:blip r:embed="rId1"/>
          <a:srcRect l="0" t="0" r="0" b="8199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46483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Jack Falls, Alask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http://www.postcardsfrom.com/t1/99072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6576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ack Falls that’s amazingly 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All images Copyright © 1997 - 2000 WriteLine. All Rights Reserved. icebergs"/>
          <p:cNvPicPr/>
          <p:nvPr/>
        </p:nvPicPr>
        <p:blipFill>
          <a:blip r:embed="rId1"/>
          <a:srcRect l="0" t="0" r="0" b="6555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434340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y Arm Fjord, Alask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3, 2010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http://www.postcardsfrom.com/t1/990730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657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you ever went ice fishing you can ther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54Z</dcterms:modified>
  <cp:revision>12</cp:revision>
  <dc:subject/>
  <dc:title>Slide 1</dc:title>
</cp:coreProperties>
</file>